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14.wmf" ContentType="image/x-wmf"/>
  <Override PartName="/ppt/media/image13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chimes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5D3-1F31-4D03-82F0-D985F761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F41-1EF8-4DC4-A891-C0B2135B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C42-22FA-4EA6-B524-49EE3123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94F-8B95-4B7D-90AD-61030454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5D8-A600-4F88-9405-DB1D333A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51BD-2968-423C-8ADD-194A1396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894-976C-4D5C-BE9B-2CB592CB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B23-EF09-4C5B-BE9D-C6F67850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59FF-79D7-4C78-B3FB-98C16294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DF8-F5CE-43A5-8A7F-29F57EA7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5C4-0D3A-4ACF-8A23-1F66E84E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061E-B931-4153-9BB7-D000A2A6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47F4-B2DE-46DE-B006-B94092E29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2133720"/>
            <a:ext cx="6248520" cy="23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actice with Area, Perimeter and Circum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2476440" cy="1831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4572000"/>
            <a:ext cx="142236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881840" y="0"/>
            <a:ext cx="126216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457200"/>
            <a:ext cx="3200400" cy="1433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04920" y="5029200"/>
            <a:ext cx="3352680" cy="127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038480" y="609480"/>
            <a:ext cx="3048120" cy="1333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6477120" y="4952880"/>
            <a:ext cx="2057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 we have to find area or perimeter of odd shap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276720" y="2133720"/>
            <a:ext cx="2057400" cy="3962160"/>
            <a:chOff x="3276720" y="2133720"/>
            <a:chExt cx="2057400" cy="3962160"/>
          </a:xfrm>
        </p:grpSpPr>
        <p:sp>
          <p:nvSpPr>
            <p:cNvPr id="51" name=""/>
            <p:cNvSpPr/>
            <p:nvPr/>
          </p:nvSpPr>
          <p:spPr>
            <a:xfrm>
              <a:off x="3352680" y="3048120"/>
              <a:ext cx="1905120" cy="3047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3276720" y="2133720"/>
              <a:ext cx="2057400" cy="99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533520" y="1905120"/>
            <a:ext cx="2057400" cy="916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area of the following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114800" y="4267080"/>
            <a:ext cx="1981080" cy="2273400"/>
            <a:chOff x="4114800" y="4267080"/>
            <a:chExt cx="1981080" cy="2273400"/>
          </a:xfrm>
        </p:grpSpPr>
        <p:sp>
          <p:nvSpPr>
            <p:cNvPr id="55" name=""/>
            <p:cNvSpPr/>
            <p:nvPr/>
          </p:nvSpPr>
          <p:spPr>
            <a:xfrm>
              <a:off x="5257800" y="42670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 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14800" y="6172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 flipH="1">
            <a:off x="5257800" y="2057400"/>
            <a:ext cx="9144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352680" y="3124080"/>
            <a:ext cx="1905120" cy="2971800"/>
            <a:chOff x="3352680" y="3124080"/>
            <a:chExt cx="1905120" cy="2971800"/>
          </a:xfrm>
        </p:grpSpPr>
        <p:sp>
          <p:nvSpPr>
            <p:cNvPr id="59" name=""/>
            <p:cNvSpPr/>
            <p:nvPr/>
          </p:nvSpPr>
          <p:spPr>
            <a:xfrm>
              <a:off x="5257800" y="3124080"/>
              <a:ext cx="0" cy="297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3352680" y="3124080"/>
              <a:ext cx="1905120" cy="2971800"/>
              <a:chOff x="3352680" y="3124080"/>
              <a:chExt cx="1905120" cy="2971800"/>
            </a:xfrm>
          </p:grpSpPr>
          <p:sp>
            <p:nvSpPr>
              <p:cNvPr id="61" name=""/>
              <p:cNvSpPr/>
              <p:nvPr/>
            </p:nvSpPr>
            <p:spPr>
              <a:xfrm>
                <a:off x="3352680" y="3124080"/>
                <a:ext cx="1905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352680" y="3124080"/>
                <a:ext cx="0" cy="2971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352680" y="6095880"/>
                <a:ext cx="1905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>
            <a:off x="6248520" y="1523880"/>
            <a:ext cx="2666880" cy="1191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half a circle.  Find the area of a circle and then divide by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09720" y="380988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3429000"/>
            <a:ext cx="2590920" cy="916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also have a rectangle.  Find the area of the rect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0" y="2895480"/>
            <a:ext cx="1257480" cy="381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6781680" y="4572000"/>
            <a:ext cx="152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= L*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5334120"/>
            <a:ext cx="2362320" cy="1191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the two together to find the area of the complete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352680"/>
            <a:ext cx="2606760" cy="916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ameter of the circle is also the width of the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800600"/>
            <a:ext cx="228600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for the formula we need RADI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90720" y="5562720"/>
                <a:ext cx="9903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3" name="SenteoPPTControl1"/>
          <p:cNvGraphicFramePr/>
          <p:nvPr/>
        </p:nvGraphicFramePr>
        <p:xfrm>
          <a:off x="4800600" y="6172200"/>
          <a:ext cx="15746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SenteoPPTControl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6172200"/>
                    <a:ext cx="1574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perimeter of this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505320" y="2133720"/>
            <a:ext cx="2057400" cy="3962160"/>
            <a:chOff x="3505320" y="2133720"/>
            <a:chExt cx="2057400" cy="3962160"/>
          </a:xfrm>
        </p:grpSpPr>
        <p:sp>
          <p:nvSpPr>
            <p:cNvPr id="77" name=""/>
            <p:cNvSpPr/>
            <p:nvPr/>
          </p:nvSpPr>
          <p:spPr>
            <a:xfrm>
              <a:off x="3581280" y="3048120"/>
              <a:ext cx="1905120" cy="3047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3505320" y="2133720"/>
              <a:ext cx="2057400" cy="993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"/>
          <p:cNvGrpSpPr/>
          <p:nvPr/>
        </p:nvGrpSpPr>
        <p:grpSpPr>
          <a:xfrm>
            <a:off x="4267080" y="4191120"/>
            <a:ext cx="1981080" cy="2273040"/>
            <a:chOff x="4267080" y="4191120"/>
            <a:chExt cx="1981080" cy="2273040"/>
          </a:xfrm>
        </p:grpSpPr>
        <p:sp>
          <p:nvSpPr>
            <p:cNvPr id="80" name=""/>
            <p:cNvSpPr/>
            <p:nvPr/>
          </p:nvSpPr>
          <p:spPr>
            <a:xfrm>
              <a:off x="5410080" y="4191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 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60958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57200" y="2133720"/>
            <a:ext cx="2362320" cy="916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ula for circumference of a circl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4038480"/>
            <a:ext cx="243864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meter of a rectang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SenteoPPTControl1"/>
          <p:cNvGraphicFramePr/>
          <p:nvPr/>
        </p:nvGraphicFramePr>
        <p:xfrm>
          <a:off x="380880" y="5105520"/>
          <a:ext cx="27306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SenteoPPTControl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105520"/>
                    <a:ext cx="27306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685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area of the door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514600" y="1600200"/>
            <a:ext cx="3579840" cy="4333680"/>
            <a:chOff x="2514600" y="1600200"/>
            <a:chExt cx="3579840" cy="4333680"/>
          </a:xfrm>
        </p:grpSpPr>
        <p:grpSp>
          <p:nvGrpSpPr>
            <p:cNvPr id="88" name=""/>
            <p:cNvGrpSpPr/>
            <p:nvPr/>
          </p:nvGrpSpPr>
          <p:grpSpPr>
            <a:xfrm>
              <a:off x="2514600" y="3809880"/>
              <a:ext cx="2742840" cy="2124000"/>
              <a:chOff x="2514600" y="3809880"/>
              <a:chExt cx="2742840" cy="2124000"/>
            </a:xfrm>
          </p:grpSpPr>
          <p:sp>
            <p:nvSpPr>
              <p:cNvPr id="89" name=""/>
              <p:cNvSpPr/>
              <p:nvPr/>
            </p:nvSpPr>
            <p:spPr>
              <a:xfrm>
                <a:off x="4160520" y="5474160"/>
                <a:ext cx="1096920" cy="45972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1.8 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14600" y="3809880"/>
                <a:ext cx="1029960" cy="45972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.1 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3581280" y="1600200"/>
              <a:ext cx="251316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886200" y="3048120"/>
              <a:ext cx="0" cy="167616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86200" y="4724280"/>
              <a:ext cx="198108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4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SenteoPPTControl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685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perimeter of the door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514600" y="1828800"/>
            <a:ext cx="3579840" cy="4333680"/>
            <a:chOff x="2514600" y="1828800"/>
            <a:chExt cx="3579840" cy="4333680"/>
          </a:xfrm>
        </p:grpSpPr>
        <p:grpSp>
          <p:nvGrpSpPr>
            <p:cNvPr id="98" name=""/>
            <p:cNvGrpSpPr/>
            <p:nvPr/>
          </p:nvGrpSpPr>
          <p:grpSpPr>
            <a:xfrm>
              <a:off x="2514600" y="4038480"/>
              <a:ext cx="2742840" cy="2124000"/>
              <a:chOff x="2514600" y="4038480"/>
              <a:chExt cx="2742840" cy="2124000"/>
            </a:xfrm>
          </p:grpSpPr>
          <p:sp>
            <p:nvSpPr>
              <p:cNvPr id="99" name=""/>
              <p:cNvSpPr/>
              <p:nvPr/>
            </p:nvSpPr>
            <p:spPr>
              <a:xfrm>
                <a:off x="4160520" y="5702760"/>
                <a:ext cx="1096920" cy="45972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1.8 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14600" y="4038480"/>
                <a:ext cx="1029960" cy="45972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.1 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581280" y="1828800"/>
              <a:ext cx="251316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886200" y="3276720"/>
              <a:ext cx="0" cy="167616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86200" y="4952880"/>
              <a:ext cx="198108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4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SenteoPPTControl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0:08:29Z</dcterms:created>
  <dc:creator>admin</dc:creator>
  <dc:description/>
  <dc:language>en-US</dc:language>
  <cp:lastModifiedBy>admin</cp:lastModifiedBy>
  <dcterms:modified xsi:type="dcterms:W3CDTF">2008-04-26T14:32:18Z</dcterms:modified>
  <cp:revision>7</cp:revision>
  <dc:subject/>
  <dc:title>Practice with Area, Perimeter and Circumference</dc:title>
</cp:coreProperties>
</file>